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E0CC-30AA-491F-AC0D-4CEF4675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A46C-D220-4816-AE2C-E5888C5D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E2863-ED5B-4F77-9FDC-D6AE92F2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413B5-2939-4E51-9E8B-248E1645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E040E-BBB2-4EEC-A9F4-AEC93A4C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E5346-4930-467C-98A9-699D76FE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08AFC-B8DC-43F7-8CED-4ADD4CE1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2FF42-6A30-4D0B-83CC-31CDBD3C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3A439-3F29-491D-94DF-AF7286DC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C9984-6B1C-4077-8543-87558CE6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AFB55-F83B-4CCF-875A-9C6255B5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80FDD-230D-4F9F-B295-5167EBD4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2B3C-69EC-4C58-B4BF-FB2B77FC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E79D1-E586-4B9C-87BD-2387DE5E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E4420-E9EA-44E6-945E-F2FF94EF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E7566-5DA2-403E-AE51-8B9F2134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A2904-6523-40BD-B682-F5DCCF8E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D92AB-2B26-41BC-95A8-B4316066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C390A-10B6-43AC-AE65-251A171C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EAA0B-92EA-4D4C-A1F2-9774737E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36629-3501-4CEC-A227-96CDDC82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4C742-032D-423E-B8F4-E4727059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41C17-DF41-468D-B16F-430B1852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49F3-4544-4CCE-B2F3-94C20356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0D23A-29E4-4F34-AD1D-BCA25794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2086A-3D73-4018-8B59-C17E4D6A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998B0-2C8A-466D-BD31-4B332B5A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83C4F-C167-4401-8A89-8479F970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09DCD-C4B9-4CAA-9A3C-131E88DF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67152-BD84-4AEF-85BD-6678C13A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8E8F7-5158-4D22-A0BB-8DA0D7D1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C35E3-E8CF-426F-818D-5C5CFF97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BF286-5961-47F0-BED9-D8827155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F4792-F8C9-49FE-A437-043F8FD2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79DC-E870-4E62-9198-24A8DB3B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132F9-3A0A-4E17-9C3A-4F0D8EA3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FD707-DD4E-43B8-953E-255851B8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94AC4-CDA8-44F9-AA4C-66E0BEB0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9CB90-CCC5-4EA8-8794-83D97FCD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EFCDC-C38D-45DC-BF09-0BD326A0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9EEA9-E801-45FE-9033-B6DFF0F7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C821B-166A-4933-AD98-6E4269DE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F20A5-8484-4237-9631-7AC6F68E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39F37-44E0-4241-BFAF-79B5A772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110DB-3F0E-41CB-9EFC-BA57CD29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E799-C937-4507-8EC9-10FD8C2F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D0D35-0C0A-4CF9-B1A2-C5F01468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98DE5-0BC4-4125-928A-79736D7B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0E1FD-A666-40D8-ABB5-3CA0F49F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D841A-58FA-44EE-AD71-D53C9750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2440A-7029-4409-9FFC-D2CF91E9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2D3491-1AC0-4038-B332-11A170C0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84010-6A44-49E0-A43C-E9071AE5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D000BB-BFE1-4F32-AE21-54BE1F7D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AB1173-2663-42CA-9B81-1D777E93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B5D073-9A66-46B7-AE29-4796ECC0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673B-A617-4FB4-8764-B1FC706B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BAF949-69B7-4626-B257-756B439C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EB538E-186D-4200-943D-8EA5BFD7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E26648-5D88-48D6-B618-950E721C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429E99-72E5-4300-805C-B28BEA2B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A0FAAD-AB28-4FC4-98B7-27DCBDEA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B4BD24-08CB-4283-9D2E-240D0A9BE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418FB6-5952-4AB4-B56B-4EF3CD70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FD9A6A-CD19-4607-A128-F9952A72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E62FB3-D415-4839-8F09-69FCE8B4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784687-35E5-4693-9078-50600226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412A-5119-48C7-A825-5F957943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3A4E6C-B9A9-4E78-9A02-7491ABF1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008907-05D2-4720-A089-FA15B19B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04BF42-A252-45C4-9EF1-B6EE874B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393CBE-A17A-44C7-841F-4B2871E2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783633-FCB9-41E3-8D0D-639CFC08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1EBE53-776E-40C9-85F8-D9E26D5F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3548AA-F7B2-4479-9F37-2CF2D342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58CE18-87D7-4929-B3EF-0A65A468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7F7229-4FCC-4A88-B667-FE35F66B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A533F5-A900-4B03-A586-5B617F59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B285-DD1C-4B89-A266-365DC7F0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0D5B40-EA35-4E02-9A10-2C42F878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937FEA-9700-4F23-A863-1D3CA0B9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F793E0-447F-4EBA-89D3-B2B32AE7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BBDA95-919C-466A-9CDB-323B0CE4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63719C-656A-40DB-9593-3954C9C0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E76A53-6C29-4381-8BCC-ADE9C09A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1EF146-EB82-4AEA-8813-A863D195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D9339E-A57B-42D7-8948-279F7561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480DA6-B9C1-44D7-9585-0379B9ED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805203-B3BB-4650-956D-06887E4C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664C-5D0B-4739-A66E-0D310541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D28299-9885-4AC9-9D48-D0A57E0E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102CE3-50CE-49A0-AA34-5F34B6F5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3FA31C-E04D-4DE1-8847-90AF11F5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59710C-D749-40FF-B5BF-9BD572A2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444683-2F37-4C20-8F5A-BACD3412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C6D4D1-243F-4F93-A4E5-637CD6B4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2F7FD2-700D-4F3E-8552-E04535F7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4AB562-5613-4ACF-BC4F-B49FC40C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3639B4-3182-4F33-A969-B8AA49A8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1E2EDE-8482-43C5-910D-640C0491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5ACC-E7BB-4660-83D9-2A5C7FFE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0C3899-CDD7-4705-8F75-4FE8CEC2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7CB22A-E6B4-4F58-AD2D-C2E4B628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45A1D8-12A8-43F1-A8B9-EBD204F5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62C52B-B167-4F92-B070-FC1369D9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030B38-83B1-4015-AA38-FCB7F870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EB0098-7BC1-437B-BE77-4096A95C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822129-0F56-472E-AB53-F7815328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37049E-E0E7-47A0-963E-469933E1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F201BC-E996-484A-8189-E542E546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E25E03-3896-4536-8AEA-CE31BFAA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196D-53DF-4416-B068-92EDBCE8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51AA-D455-43F4-98EF-A5993401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55548C-6187-4F60-BBF1-8BF8DACF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05B022-0AC5-4B76-B687-60B9C59D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98FBE2-FF39-44EE-8D8E-0DF0B394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A56B68-ACE7-4875-B080-9046D9A9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D68B55-4478-4C62-A297-B1F1396C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C775D9-85EC-4E84-A1BD-31F21070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C483F0-0CE9-4894-8D66-01FA2B2D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38C6FD-0153-4234-864D-6129C77E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672CC3-2123-441F-AEB5-3D72FD26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7F2881-2AD4-494D-9912-C1CA1CD2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6EF9-0407-4FF0-B23F-A86F3C26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DBD095-EA3E-43E4-8BD0-6CB42983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82030D-AF23-4E77-A795-09E8525F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F2A3AC-7081-4CF2-9B96-D899CEFC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D37040-CA97-4D53-9DFC-1DFA37CA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5506BD-F853-499A-AD03-80FA2DDC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D96352-2136-46DF-A720-1E42473D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ED31BB-9456-46BC-9321-0EACDF30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1FE665-0D95-4E38-B784-3B745E17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F43328-08EC-494F-BE38-2188655A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3EBE38-2D0A-40D3-AAD1-C3E534EF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2EB9-FF8E-4846-A3AD-AADDCD4D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B0063E-87C9-48F6-AD6E-C2630C07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2ED6F0-4951-465F-AA91-671480F3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EEA21C-3877-4778-B22D-3638AB08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F81F22-27D7-494E-8CC7-57E14A16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20EBA0-2120-4F45-9683-F3B3B531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6D8704-01C7-4D27-A762-51A87F31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0ACEB9-7115-4F71-8D64-CE83E635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6663F8-092D-4FDF-BC01-AF0509B6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71AA80-CE7A-4D2F-B2B1-25860029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A224E4-1F8A-4015-AA07-F7B218F7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AAE0-A335-4F26-A548-3281619A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9F337A-4143-4EAD-B25D-056288FA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7530C0-72D6-453C-AD6B-A17FBAAF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2BF10A-6DC2-4438-A8E7-7D8808D4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742098-EB0E-4FD8-93D6-423B117B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8BEC71-01DC-4389-9649-238A81F5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00025F-B733-424D-A821-6BD4F32C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407060-8B7B-40A0-ABD1-867F0E5C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822F55-C2E1-4F69-81F1-F2733116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CB50C1-00B0-4A0E-9D62-12703471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CBD80B-1829-4DC7-9CB9-28134DAF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9012-EC45-448D-A805-18F1E44E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DD93A5-7FF2-4EE0-AFAF-A19C35CF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D4BB6F-AF56-4534-A33F-5E3FFD54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A4D8A7-3351-44ED-9766-05FE266C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586D81-9480-4B36-A32E-C2DE3AA0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CAA4A2-024C-49E0-967B-047B5900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9220E1-8E86-454E-904F-ED0E6762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9A6687-C63F-4E56-B2E7-8C278DEA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C54FCD-C934-45AB-B3EB-4A6F376A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555749-3515-4CCA-A122-EFEC9C1D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1A4397-0DA0-451A-AE9B-FB23E23F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52DDF-40C0-45B0-A0BC-41729B3B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9B95D1-D190-45B0-86F2-C95D1291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8E66C0-1EE6-4855-8801-30B8031F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28E6D6-896D-4174-8A7C-5578DCC5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6DE2A5-66EC-45A6-AAA2-EB238E5D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B26694-8615-4A79-A60F-D7305D19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D6DA22-DEA1-44BF-AE26-FDD19230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6FF089-B1DC-486C-BE7C-7A77F293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104190-DDC2-4A05-8C07-C803D7F9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90C9B8-0E5D-4602-A61F-4CD7F0DF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F03D1B-5C75-4363-BC1C-66EB475D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C580B-07CB-455A-87EF-3CD4ADE7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EF595D-E973-413D-A123-AA21DCF5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F3B046-A0EF-4A23-AD76-C67314EC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6FEFD0-73B4-4A9A-918D-C7C66CF4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C15306-35C5-4E2F-8175-3BC2D224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B72FC2-91F6-4704-BDEA-066BC813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2E5C17-10DC-4C61-B72A-7728344A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89F080-7C1A-44F4-BA09-5A1968F5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8FD917-B61A-4FBA-A8D5-748A1D89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5BC3C4-6E7C-4C22-B099-732D1923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875AA4-63AA-4763-80D6-613BFCF4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9F521-57C1-4A77-AB60-CCA3B92A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48A07B-CC23-43D7-A10E-81CD255D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BA1462-8AB4-403D-B894-965222D1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14A158-CB35-4709-8E49-D929A1F0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2060D4-D51F-4179-AF2B-4ECC5642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B6F293-2725-475C-8DC4-5E98C7B1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FFAA52-296B-408E-B373-9D7061FF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04E1A4-E23D-4C1E-B9AA-2AB06A5E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C0DAA-7126-41FC-9458-D8D00AB3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3A528-F6CB-4177-B761-B6D5B518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2338-0B38-43F2-8CDA-70CD8683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34ABD-EBD3-44C7-86C4-6152593C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11034-70AF-4783-9593-62942CCF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EF97E-9740-46E1-8585-E26D4AF1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2A8D3-F8D8-4946-8354-B183AFF8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9872F-3F2C-4940-A111-7D0EFFF0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87C08-00E6-40EC-BF14-40FC0262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4C125-768C-4CBF-B6A0-B17DB332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2408A-99FD-40F1-8F98-08FC697F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DCC92-DA05-407D-B6C2-BF52512F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C14E9-8BFA-4B94-A701-C5A68F1A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FDED-42F3-4573-9B11-683C4F14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D67D7-F277-4663-AD3B-9983E38D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74EC4-BF42-4819-A6F5-8581779B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A7E11-783E-41E0-A7F0-5385ABA3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4881C-AC6E-4DB3-83EF-8F55F881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3AE92-5FFE-46B5-AA6B-06FB65E2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68013-DB82-423C-A42D-E312FF93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CC695-3199-4BB5-9FE9-336FC1F0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FFDD6-6455-47BD-9496-EB8686AB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D9906-1624-42CC-98A5-53D8B270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4D129-2EE0-4D58-BCB0-6F4EC23F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1DAF-00FE-4C00-9F58-ED015471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7C839-932F-463D-9F45-30A270AB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D57B1-FDDC-4286-A30B-884F12A0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D8F2A-BD5D-4CAD-BF6C-5B50A62F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D6C23-FFB7-4818-AAD6-D0147B92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E7A4B-91CB-4194-A9F3-2C5BFBFE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1EFB2-CBFD-4194-A287-938D290A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0450E-F746-4249-8958-238E01B3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44DF6-81DD-4745-A2DE-C68B9FAB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DE3AF-AC14-4867-AA90-19DBF5EF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DF986-F6E9-4C4F-8F38-E34C0B9B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4AEE-725B-4750-9CFF-255C0151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A9D61-997F-48BB-9846-813FEC13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05062-CB01-46F1-98BB-8F32895B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EE9E2-7FAF-4EE9-87A0-D411C5D4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24A53-2B15-421B-A0A3-71F388A1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68B51-07BF-48C8-AB6C-DCDCDB2E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C8B22-23C2-417B-9509-AD7FCB0D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70779-7DCE-4AA7-A949-1F258A4F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E4C39-8A47-4FCF-BB60-D74AC6F7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DA893-22D5-4D01-9FEB-2D5BDEFD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F64AC-4C56-4D13-8678-E93EFF9C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C85C-8FF4-41B2-AB7B-F9183313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FFC91-0340-4ACC-B277-A61BF810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7813E-11A5-4084-8E02-1A8F280D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CAD8A-CF60-4B70-B50D-777EA15E0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12BF3-D163-48FE-BDB2-DFCD3C75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C07CC-27C3-4828-A648-CA600B82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C017D-1F66-43F7-A091-2976472C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6E73C-A82C-49F5-A01D-39A87FF8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70439-CD86-48E6-A93C-6B36BDA0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66D52-7A14-43A1-BA12-393D9A8E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31477-5D1C-4AFD-ACC5-B3C1B2FE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437B-A370-4D06-B745-1C28970E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0A6BB-158A-4A13-9E58-5F607EF1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1CD83-37F8-4F45-88D9-EB58C9F1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F38E9-2B63-48B8-A37C-2EEB0E69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70B92-D245-4E43-9EC5-7D8C9BF2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B8076-AD5F-44BF-B166-06651F5E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368D5-C86A-4DF3-8607-76AEDD4F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A322A-EC12-4544-86B8-E771D9C5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69A15-BDCD-4D55-83F2-15C3E15A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A0A0B-5A99-4E81-BF89-C4295439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6864F-C67D-410A-9419-82F3325A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7301-BCA7-4144-905E-C7EEE3A1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40DE8-E905-4866-8A8C-E7EE3592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2A711-CD6A-4A61-AE40-5749D256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31606-212E-4FC1-B1CA-D484879A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6788E-EEC7-427A-A8DE-09C1A32A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FA897-07B9-44F8-BE63-C729C908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186B4-5DB3-4121-8586-CC554B94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5A408-CD13-4C13-9792-4AAD51C4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C1D81-A6D4-43EE-BBA8-D15C44DC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ADFC2-98F6-4994-9D55-557FA0DC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0AE3E-CDDC-492A-B9AC-E3A8C3D8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679C-4328-443A-AA61-D8A30FA16A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C97A-DF85-45CC-9C13-520BA8C1DE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1BE2-8430-4FF3-A295-4A56B3FD06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C986-F204-4B2C-91D1-E5E2176DA9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F0D2-5827-40F7-938E-23D1436DE7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E9CA-C3DA-411E-A7F5-8DF0F51FA8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3D77-79D6-4017-8BBC-CE2A093DA4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5DAE-0F29-44FF-8ACA-4C114C4CEA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C9DD-49E3-40FD-80DE-3910826EF2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8243-3076-472E-AC5F-71083F02F5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D41F-20D4-482E-A76C-DDC0EF91B9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2672-559C-4173-B5D3-CCD921F76C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B84B-D65E-451F-B38F-A18C7ACDBA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3699-5AA5-44A8-9858-CDD1E1EF88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EC28-A65C-4564-8699-2FCE6493BD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50A5-A2A1-467B-842F-6CC611F92C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2362-FBFC-49C9-9123-77D2931607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7973-2DCC-43BF-B1F3-5F4DE3FCA5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5254-B420-4F09-B828-6E3B857F66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44AF-0C4B-4503-9595-B014A40620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ABCB-65D2-4CF1-99D3-5DB5182C94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8852-7A53-4F88-AD16-FBA5B5BE3CE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1234-9ECA-4B75-B21E-14D34CCF6E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1341-F294-438E-AED9-C101902F07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E9D2-BA76-4521-96AE-C6E7D0A2F1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FD97-FA08-418B-BFB0-FA1FE42A4A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93B1-66B8-4540-BF3C-1B3B9E5B70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7FC3-03E4-4A70-BEBA-E506D7E8FF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8A67-431B-433E-B451-DA971F7DB9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E8E2-8FAC-4930-8796-759E61141A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74EC-2E26-4E0C-B344-98EFE32E2A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AF2C-58E1-48B3-96F3-B7ADEFA4B3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BEBD-6B0A-4098-AA23-7890B06515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EB2E-2B94-45C2-A43F-CBEC782ACE9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B3D2-9516-4D6A-B931-3C76B908A8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584E-309D-44F7-BD83-C90674AA54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FF0F-804B-4CFD-AA99-B6FFF3047C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5E0B-9B3C-46EC-A7B1-29C762DA8C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4B30-0FB7-470F-AB10-FD49776E37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742F-A634-4F39-AABC-700EB33F6F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C68E-EEEF-4EB4-8EAE-131A61EA43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F06F-9ECD-4827-90A1-9ECF7B7C36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504800" y="3119400"/>
            <a:ext cx="61344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81080" y="1819440"/>
            <a:ext cx="8781840" cy="32191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3635280" y="39765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7610400" y="39765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09" name="图片 6148" descr=""/>
          <p:cNvPicPr/>
          <p:nvPr/>
        </p:nvPicPr>
        <p:blipFill>
          <a:blip r:embed="rId4"/>
          <a:stretch/>
        </p:blipFill>
        <p:spPr>
          <a:xfrm>
            <a:off x="1763640" y="4451400"/>
            <a:ext cx="2160720" cy="492120"/>
          </a:xfrm>
          <a:prstGeom prst="rect">
            <a:avLst/>
          </a:prstGeom>
          <a:ln w="0">
            <a:noFill/>
          </a:ln>
        </p:spPr>
      </p:pic>
      <p:pic>
        <p:nvPicPr>
          <p:cNvPr id="1010" name="图片 6149" descr=""/>
          <p:cNvPicPr/>
          <p:nvPr/>
        </p:nvPicPr>
        <p:blipFill>
          <a:blip r:embed="rId5"/>
          <a:stretch/>
        </p:blipFill>
        <p:spPr>
          <a:xfrm>
            <a:off x="5753160" y="4437000"/>
            <a:ext cx="216036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100080" y="763560"/>
            <a:ext cx="8943840" cy="58960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539640" y="1096920"/>
            <a:ext cx="2087640" cy="3189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468360" y="1455840"/>
            <a:ext cx="3456000" cy="3189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538200" y="3070080"/>
            <a:ext cx="2087640" cy="3193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466560" y="3429000"/>
            <a:ext cx="3456000" cy="318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6"/>
          <a:stretch/>
        </p:blipFill>
        <p:spPr>
          <a:xfrm>
            <a:off x="755640" y="4438800"/>
            <a:ext cx="2087640" cy="3189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7"/>
          <a:stretch/>
        </p:blipFill>
        <p:spPr>
          <a:xfrm>
            <a:off x="684360" y="4797360"/>
            <a:ext cx="3456000" cy="31932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8"/>
          <a:stretch/>
        </p:blipFill>
        <p:spPr>
          <a:xfrm>
            <a:off x="682560" y="5734080"/>
            <a:ext cx="3673440" cy="3189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9"/>
          <a:stretch/>
        </p:blipFill>
        <p:spPr>
          <a:xfrm>
            <a:off x="611280" y="6093000"/>
            <a:ext cx="3456000" cy="31896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10"/>
          <a:stretch/>
        </p:blipFill>
        <p:spPr>
          <a:xfrm>
            <a:off x="611280" y="6381720"/>
            <a:ext cx="36734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119160" y="1967040"/>
            <a:ext cx="8905680" cy="29239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755640" y="2852640"/>
            <a:ext cx="1512720" cy="31932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755640" y="3213000"/>
            <a:ext cx="4537080" cy="3193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611280" y="4508640"/>
            <a:ext cx="45370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10:09:1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